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61254"/>
        <c:axId val="87042909"/>
      </c:barChart>
      <c:catAx>
        <c:axId val="75861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2909"/>
        <c:crosses val="autoZero"/>
        <c:auto val="1"/>
        <c:lblAlgn val="ctr"/>
        <c:lblOffset val="100"/>
        <c:noMultiLvlLbl val="0"/>
      </c:catAx>
      <c:valAx>
        <c:axId val="87042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1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6AF-0E7B-40A9-9E08-B7C60727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033-C794-47DD-81AA-AA26B026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7A4-8501-4419-9899-8EC9E7F2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9B3-32F6-419D-8FE0-0CA76535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ABA-45AD-497C-A3D1-C9521C01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94F-5379-413E-9FCB-AA5C696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8F70-A574-4B15-99C3-BFBA90A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8C4-1BE1-4A0F-AF21-E010F364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A8F-0F41-4CCA-B352-DFAF2685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174-B0CE-477E-AFB0-11D0E7A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54C-98FB-4A84-9622-D3063753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9118-9A4B-492A-9169-BBA91A87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A2B2B-F36F-4963-B421-91F94402F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