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77229"/>
        <c:axId val="24162361"/>
      </c:barChart>
      <c:catAx>
        <c:axId val="27177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62361"/>
        <c:crosses val="autoZero"/>
        <c:auto val="1"/>
        <c:lblAlgn val="ctr"/>
        <c:lblOffset val="100"/>
        <c:noMultiLvlLbl val="0"/>
      </c:catAx>
      <c:valAx>
        <c:axId val="24162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77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EB8-7432-446E-ACCC-29EFC8E9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297-CC74-4011-BF62-DEDDDA6E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EE9-356E-453C-8094-A3F582FF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C94-8DBF-43DF-9DFD-205B1B5F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CB7-59B9-4D39-8494-DEFB2E68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4F2-FA05-4D9F-8A4E-B467CF75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A9F-E033-4461-9F12-A3CC01F9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A7D-036A-4240-BF7D-6C791497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1EB-BD80-4DDC-BB92-003655F3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1DD-BF69-41AC-AFD8-1C68B125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799-407D-44C2-9074-05B43D2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9FA-4CB9-41F3-8453-764A4771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A8C8B-AE95-4C59-BFB5-8A691B7806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