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09879"/>
        <c:axId val="47673080"/>
      </c:barChart>
      <c:catAx>
        <c:axId val="4420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3080"/>
        <c:crosses val="autoZero"/>
        <c:auto val="1"/>
        <c:lblAlgn val="ctr"/>
        <c:lblOffset val="100"/>
        <c:noMultiLvlLbl val="0"/>
      </c:catAx>
      <c:valAx>
        <c:axId val="47673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1FB-5731-43B5-B797-70FB74FE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EE4-B8A6-4337-B8A1-A131A811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B21-2137-4007-BAAD-96C406ED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0F2-95DA-4EEE-86E8-1F76F0C0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49F-09E7-4729-9923-91AA74FB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98E-3D4B-432E-85EE-FFBF18A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04C-014F-4DF4-8A61-4E24073A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CB8-196D-4D77-973A-F8565C9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CF0-01D5-47F3-A072-B32BEAC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1C9-07AC-4C00-B12F-A04378F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9E3-7037-4634-ADEA-22D30E4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6F1-1253-4CFB-AB39-DA7E479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1EE21-56B4-4CDB-9769-88ED393051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