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29415"/>
        <c:axId val="44275561"/>
      </c:barChart>
      <c:catAx>
        <c:axId val="292294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75561"/>
        <c:crosses val="autoZero"/>
        <c:auto val="1"/>
        <c:lblAlgn val="ctr"/>
        <c:lblOffset val="100"/>
        <c:noMultiLvlLbl val="0"/>
      </c:catAx>
      <c:valAx>
        <c:axId val="442755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294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32BD-9ABA-4752-9CB5-61B651FE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49E-F780-4A9F-907E-1CAFE923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8572-FEE7-44E1-80D0-6754EA64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3F3-A66E-4DF9-8FF3-8617AB5D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778B-6F12-46B8-AFB4-D2E92632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7B17-EBF7-4594-97F5-F7A77246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961-6EF2-481D-9977-186FDA61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C448-6A50-4240-8D78-9A46C861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8AE-DB8C-4043-94AE-DA0A2D79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2AC-6609-46EF-AD8F-7E131C3B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E8F-770C-4C71-A85F-F3670250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0072-8671-4B78-99CB-6D11BEDE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F63D3-807A-4AE3-8B95-7EE066FB64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