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11212"/>
        <c:axId val="78490015"/>
      </c:barChart>
      <c:catAx>
        <c:axId val="894112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90015"/>
        <c:crosses val="autoZero"/>
        <c:auto val="1"/>
        <c:lblAlgn val="ctr"/>
        <c:lblOffset val="100"/>
        <c:noMultiLvlLbl val="0"/>
      </c:catAx>
      <c:valAx>
        <c:axId val="78490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112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0D8-357A-44FF-8777-C0507397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695-E7CE-4559-B6D4-E56710CA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B46-C719-44F6-90C9-FD72AEF3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C79D-9212-42B6-8D5F-C33170EC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5057-7B04-4B82-BF1B-812B9C00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DBE-B7DE-45EB-B739-A9CA1652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C2F-8666-4CB3-ACC3-EDD262EA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9DB-4042-4E10-9182-04C84F98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337-4848-407B-AFAB-13BEC7EE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D04-0CCB-4CFA-A60C-D2218C7E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617-65EA-4392-B608-80B5830A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98F-2D12-4839-9D6C-6DFC64F4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92EA8-2990-4B49-B77D-FBDE9D8DB9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