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86360"/>
        <c:axId val="13291869"/>
      </c:barChart>
      <c:catAx>
        <c:axId val="33586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91869"/>
        <c:crosses val="autoZero"/>
        <c:auto val="1"/>
        <c:lblAlgn val="ctr"/>
        <c:lblOffset val="100"/>
        <c:noMultiLvlLbl val="0"/>
      </c:catAx>
      <c:valAx>
        <c:axId val="13291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86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6D3-F698-4840-9B34-159F75B1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246E-A544-4B07-91C6-E0147EF5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336-18AD-4CF1-B936-83D5A6E4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B31-9304-453F-974E-BBBFF781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A945-F5FF-49D8-B78F-126DF01F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ABD-8751-4F63-AF11-BD76CF14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BE2-3AFA-475E-BFBF-DE4729F4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142-E969-4211-ABFE-094A241A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3F5-F92B-4720-8E96-EDD311AF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32B-DAF9-4173-ACDE-E63A9575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867-56E2-412E-AAD1-DF5BB652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0DC-9B3F-41A9-A67B-8F2E38AE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C9997-AE3C-4019-B726-FE157B0998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