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98617"/>
        <c:axId val="71008317"/>
      </c:barChart>
      <c:catAx>
        <c:axId val="30098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8317"/>
        <c:crosses val="autoZero"/>
        <c:auto val="1"/>
        <c:lblAlgn val="ctr"/>
        <c:lblOffset val="100"/>
        <c:noMultiLvlLbl val="0"/>
      </c:catAx>
      <c:valAx>
        <c:axId val="71008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8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A5D-5D8C-43DC-968E-93E17300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07B-4EBC-4DFC-9F50-5048997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3D0-3675-4F4E-BC7B-B4FA1AD1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FCA-F59E-4208-9B0A-5EE8A147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96C-D0BB-4004-9347-12730923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F53-AEDA-472B-A6DC-C4CB7AC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E6B-E3CA-4D76-A5C3-78E75088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1CF-0F58-49F6-926F-59077E8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F10-7F80-4CB7-A747-FAC5AE0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50B-EA76-44E8-A5C2-ACC4151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9B-4C4F-42A3-8F9E-DFF54619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63B-8E8D-4B3D-AD0E-04FEA8A5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AB210-B1DE-41D0-AD93-F0ECAD257A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