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46885"/>
        <c:axId val="24350623"/>
      </c:barChart>
      <c:catAx>
        <c:axId val="48546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0623"/>
        <c:crosses val="autoZero"/>
        <c:auto val="1"/>
        <c:lblAlgn val="ctr"/>
        <c:lblOffset val="100"/>
        <c:noMultiLvlLbl val="0"/>
      </c:catAx>
      <c:valAx>
        <c:axId val="24350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46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8FE-FCB2-4A22-9DB3-75165692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460-C61F-473A-9C2E-7559A03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B74-4A3B-4E82-AF90-126980AC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A95-63B5-48CE-90C9-B6B2852A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DDA-8E60-47CE-B472-CE3A144A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A0F-EB6C-4FB1-8ECD-127149C2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A8B-882C-4083-997A-8DC67F7D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95A-F491-4365-B936-4A18EA77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4D2-1613-4E9A-B4AC-F9152A5C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B09-3F4A-4F64-87C0-97D8D9A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755-25C1-46AC-B87E-80B1B6DD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BF0-3686-4C3F-9852-517D59A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FE9D6-AD44-4AE8-9610-A15AD1BA3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