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6816"/>
        <c:axId val="46776322"/>
      </c:barChart>
      <c:catAx>
        <c:axId val="7806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76322"/>
        <c:crosses val="autoZero"/>
        <c:auto val="1"/>
        <c:lblAlgn val="ctr"/>
        <c:lblOffset val="100"/>
        <c:noMultiLvlLbl val="0"/>
      </c:catAx>
      <c:valAx>
        <c:axId val="46776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6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8A0-E8C4-4D4F-BA5E-D325CCA0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F66-4FEA-4A33-9045-9A8FFF8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FC7-2320-4871-B2AD-4608038F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6D0-C097-4F41-B88B-8A717C8E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8B4-26DE-4436-8C66-A926BA63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AAD-C28B-4D42-99E0-A9911FDC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A48-367B-43C1-A519-8D98647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0D1-3E09-4599-B8A0-B729867E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6BF-E334-46FA-917A-847CF71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0AC-19CF-4CC1-8BBD-3FCCBB8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B18-313B-48EE-AC24-1D1EE61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FEC-8A9E-4FBA-89C5-0F1564C5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C6E57-366A-4E94-93BF-CF3735931A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